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7C1-F3E6-4FD7-A4BA-302956FE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C8F-DE30-4046-803B-422BEAD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807-35B7-477C-95F0-1E632314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70D-CAA6-46B6-B327-56F9B0A5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092-EFED-4408-8156-813B9F26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752-15FE-4DEA-BB61-8734D127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C6C-1FB1-42D3-85A5-717B4FE4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410-A7D8-40EA-BA82-786C1720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E49-25CC-4D27-9F2B-890554DE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69D-55E9-4E82-95AF-6596A94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660-D642-4423-88C6-E48D528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692-C0C0-4AE4-8B97-30005E3E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5A6D-2DF5-4993-BEE3-6249EB9D1E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13400" y="3456000"/>
            <a:ext cx="4478040" cy="336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13480" y="3638520"/>
            <a:ext cx="3300480" cy="2579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8840" y="621828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68840" y="578484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68840" y="536112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8840" y="492912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68840" y="4495680"/>
            <a:ext cx="4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8840" y="407196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8840" y="3638520"/>
            <a:ext cx="44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61348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27696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93108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594560" y="6217920"/>
            <a:ext cx="180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250120" y="6217920"/>
            <a:ext cx="180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913960" y="6217920"/>
            <a:ext cx="1440" cy="4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3830760"/>
            <a:ext cx="336600" cy="11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76960" y="4937040"/>
            <a:ext cx="32688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03840" y="5294160"/>
            <a:ext cx="32724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1080" y="5460840"/>
            <a:ext cx="33660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67680" y="5543640"/>
            <a:ext cx="326880" cy="4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94560" y="5584680"/>
            <a:ext cx="3286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923240" y="5576400"/>
            <a:ext cx="32688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4395960"/>
            <a:ext cx="336600" cy="82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76960" y="5219640"/>
            <a:ext cx="326880" cy="2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03840" y="5477040"/>
            <a:ext cx="327240" cy="11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1080" y="5594400"/>
            <a:ext cx="3366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67680" y="5643720"/>
            <a:ext cx="32688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594560" y="5635800"/>
            <a:ext cx="3286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923240" y="5584680"/>
            <a:ext cx="32688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13360" y="380520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17" y="0"/>
                </a:moveTo>
                <a:lnTo>
                  <a:pt x="34" y="32"/>
                </a:lnTo>
                <a:lnTo>
                  <a:pt x="0" y="3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9960" y="4911840"/>
            <a:ext cx="54000" cy="48960"/>
          </a:xfrm>
          <a:custGeom>
            <a:avLst/>
            <a:gdLst/>
            <a:ahLst/>
            <a:rect l="l" t="t" r="r" b="b"/>
            <a:pathLst>
              <a:path w="34" h="31">
                <a:moveTo>
                  <a:pt x="17" y="0"/>
                </a:moveTo>
                <a:lnTo>
                  <a:pt x="34" y="31"/>
                </a:lnTo>
                <a:lnTo>
                  <a:pt x="0" y="3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76840" y="526896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17" y="0"/>
                </a:moveTo>
                <a:lnTo>
                  <a:pt x="34" y="32"/>
                </a:lnTo>
                <a:lnTo>
                  <a:pt x="0" y="3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05520" y="543564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6" y="0"/>
                </a:moveTo>
                <a:lnTo>
                  <a:pt x="33" y="32"/>
                </a:lnTo>
                <a:lnTo>
                  <a:pt x="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40680" y="5519880"/>
            <a:ext cx="54000" cy="48960"/>
          </a:xfrm>
          <a:custGeom>
            <a:avLst/>
            <a:gdLst/>
            <a:ahLst/>
            <a:rect l="l" t="t" r="r" b="b"/>
            <a:pathLst>
              <a:path w="34" h="31">
                <a:moveTo>
                  <a:pt x="17" y="0"/>
                </a:moveTo>
                <a:lnTo>
                  <a:pt x="34" y="31"/>
                </a:lnTo>
                <a:lnTo>
                  <a:pt x="0" y="3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9360" y="5560920"/>
            <a:ext cx="5220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6" y="0"/>
                </a:moveTo>
                <a:lnTo>
                  <a:pt x="33" y="31"/>
                </a:lnTo>
                <a:lnTo>
                  <a:pt x="0" y="31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96240" y="5568840"/>
            <a:ext cx="52200" cy="49320"/>
          </a:xfrm>
          <a:custGeom>
            <a:avLst/>
            <a:gdLst/>
            <a:ahLst/>
            <a:rect l="l" t="t" r="r" b="b"/>
            <a:pathLst>
              <a:path w="33" h="31">
                <a:moveTo>
                  <a:pt x="17" y="0"/>
                </a:moveTo>
                <a:lnTo>
                  <a:pt x="33" y="31"/>
                </a:lnTo>
                <a:lnTo>
                  <a:pt x="0" y="31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3120" y="5551560"/>
            <a:ext cx="54000" cy="50760"/>
          </a:xfrm>
          <a:custGeom>
            <a:avLst/>
            <a:gdLst/>
            <a:ahLst/>
            <a:rect l="l" t="t" r="r" b="b"/>
            <a:pathLst>
              <a:path w="34" h="32">
                <a:moveTo>
                  <a:pt x="17" y="0"/>
                </a:moveTo>
                <a:lnTo>
                  <a:pt x="34" y="32"/>
                </a:lnTo>
                <a:lnTo>
                  <a:pt x="0" y="3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13360" y="4371840"/>
            <a:ext cx="540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9960" y="5194440"/>
            <a:ext cx="5400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76840" y="5452920"/>
            <a:ext cx="540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05520" y="5568840"/>
            <a:ext cx="5256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0680" y="5618160"/>
            <a:ext cx="5400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9360" y="5627520"/>
            <a:ext cx="522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96240" y="5610240"/>
            <a:ext cx="5220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23120" y="5560920"/>
            <a:ext cx="54000" cy="4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35280" y="6151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45760" y="571824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5760" y="529416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5760" y="486252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5760" y="442908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8840" y="400536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8840" y="357336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7640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168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9580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928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14840" y="6334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841960" y="6334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2680" y="6541920"/>
            <a:ext cx="1195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maining, n, ye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3831480" y="4762800"/>
            <a:ext cx="196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Equivalent annual charge (E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13400" y="3456000"/>
            <a:ext cx="4478040" cy="336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91440" y="429588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91440" y="5715000"/>
            <a:ext cx="107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3357720"/>
            <a:ext cx="5707080" cy="3500280"/>
            <a:chOff x="0" y="3357720"/>
            <a:chExt cx="5707080" cy="3500280"/>
          </a:xfrm>
        </p:grpSpPr>
        <p:sp>
          <p:nvSpPr>
            <p:cNvPr id="105" name=""/>
            <p:cNvSpPr/>
            <p:nvPr/>
          </p:nvSpPr>
          <p:spPr>
            <a:xfrm>
              <a:off x="0" y="3357720"/>
              <a:ext cx="5707080" cy="35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9400" y="3565440"/>
              <a:ext cx="2949480" cy="2698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12680" y="6264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12680" y="5931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12680" y="55897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2680" y="5256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2680" y="491328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2680" y="4581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12680" y="42386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12680" y="39067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12680" y="35640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04940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52568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00340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479680" y="6264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57400" y="6264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433680" y="6264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909960" y="6264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479680" y="3784680"/>
              <a:ext cx="9828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525320" y="4863960"/>
              <a:ext cx="982440" cy="10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79680" y="4745160"/>
              <a:ext cx="98280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5320" y="4853160"/>
              <a:ext cx="9824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479680" y="4308480"/>
              <a:ext cx="98280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525320" y="4857840"/>
              <a:ext cx="98244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479680" y="4857480"/>
              <a:ext cx="98280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525320" y="4325760"/>
              <a:ext cx="98244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479680" y="4854240"/>
              <a:ext cx="98280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1525320" y="4619520"/>
              <a:ext cx="98244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479680" y="4854240"/>
              <a:ext cx="98280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525320" y="4611600"/>
              <a:ext cx="98244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479680" y="4853160"/>
              <a:ext cx="9828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525320" y="4718160"/>
              <a:ext cx="9824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2479680" y="4853160"/>
              <a:ext cx="9828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525320" y="4752720"/>
              <a:ext cx="9824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16400" y="374652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12"/>
                  </a:lnTo>
                  <a:lnTo>
                    <a:pt x="11" y="23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62040" y="4826160"/>
              <a:ext cx="4320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12"/>
                  </a:lnTo>
                  <a:lnTo>
                    <a:pt x="11" y="23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08040" y="5897520"/>
              <a:ext cx="42840" cy="428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23" y="11"/>
                  </a:lnTo>
                  <a:lnTo>
                    <a:pt x="11" y="23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06680" y="4716360"/>
              <a:ext cx="558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52680" y="4824360"/>
              <a:ext cx="5544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98680" y="4923000"/>
              <a:ext cx="5544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6400" y="427680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0"/>
                  </a:moveTo>
                  <a:lnTo>
                    <a:pt x="22" y="22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2040" y="4826160"/>
              <a:ext cx="4320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08040" y="5375160"/>
              <a:ext cx="42840" cy="428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06680" y="5346720"/>
              <a:ext cx="5580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52680" y="4824360"/>
              <a:ext cx="5544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680" y="4292640"/>
              <a:ext cx="5544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97320" y="504972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406680" y="5057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33680" y="508464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406680" y="508464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433680" y="5057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43320" y="481644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452320" y="482400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9680" y="48513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452320" y="48513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479680" y="482400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0760" y="4583160"/>
              <a:ext cx="91800" cy="8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1498320" y="4589640"/>
              <a:ext cx="2844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5680" y="46162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498320" y="46162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525680" y="4589640"/>
              <a:ext cx="2844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6400" y="5059440"/>
              <a:ext cx="4284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62040" y="4826160"/>
              <a:ext cx="4320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8040" y="4583160"/>
              <a:ext cx="4284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7320" y="495144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433680" y="49590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33680" y="498636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06680" y="498636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33680" y="498636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3320" y="481644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479680" y="4824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79680" y="485136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452320" y="4851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79680" y="4851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90760" y="4681440"/>
              <a:ext cx="918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5680" y="468900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5680" y="471636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98320" y="4716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5680" y="4716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6680" y="4905360"/>
              <a:ext cx="5580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680" y="4824360"/>
              <a:ext cx="554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98680" y="4724280"/>
              <a:ext cx="554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0040" y="619272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0040" y="586116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040" y="5518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5680" y="518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4600" y="4843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4600" y="4510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600" y="41688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4600" y="3835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4600" y="3494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6768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396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2168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1600" y="636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7568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5196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28240" y="6364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03400" y="6570720"/>
              <a:ext cx="160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 Change from Base 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95400" y="48236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52960" y="426564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53040" y="424188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11"/>
                  </a:lnTo>
                  <a:lnTo>
                    <a:pt x="11" y="23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22960" y="418608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 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2960" y="445464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43320" y="4427640"/>
              <a:ext cx="558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2240" y="437508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 Grow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2960" y="4643280"/>
              <a:ext cx="250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53040" y="4619520"/>
              <a:ext cx="42840" cy="428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22" y="23"/>
                  </a:lnTo>
                  <a:lnTo>
                    <a:pt x="0" y="2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22960" y="4564080"/>
              <a:ext cx="106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 Volu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52960" y="4832280"/>
              <a:ext cx="250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43320" y="4805280"/>
              <a:ext cx="5580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22600" y="475308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riable 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2960" y="502128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33960" y="4987800"/>
              <a:ext cx="93600" cy="8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243320" y="499392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21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243320" y="50212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270320" y="499392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22240" y="49417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52960" y="5211720"/>
              <a:ext cx="250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5186520"/>
              <a:ext cx="42840" cy="42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3320" y="513252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2960" y="540072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33960" y="5365800"/>
              <a:ext cx="93600" cy="8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270320" y="537336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70320" y="54007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243320" y="54007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0320" y="54007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21880" y="532116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x R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52960" y="5589720"/>
              <a:ext cx="25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3320" y="5562720"/>
              <a:ext cx="5580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22240" y="5510160"/>
              <a:ext cx="79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600120" y="1606680"/>
            <a:ext cx="5664240" cy="3816360"/>
            <a:chOff x="600120" y="1606680"/>
            <a:chExt cx="5664240" cy="3816360"/>
          </a:xfrm>
        </p:grpSpPr>
        <p:sp>
          <p:nvSpPr>
            <p:cNvPr id="238" name=""/>
            <p:cNvSpPr/>
            <p:nvPr/>
          </p:nvSpPr>
          <p:spPr>
            <a:xfrm>
              <a:off x="600120" y="1606680"/>
              <a:ext cx="5664240" cy="381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53160" y="277668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35440" y="313992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49480" y="281160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36880" y="359712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8800" y="3795840"/>
              <a:ext cx="8280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95400" y="3835440"/>
              <a:ext cx="56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62200" y="3197160"/>
              <a:ext cx="106560" cy="10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5400" y="44276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3" idx="3"/>
              <a:endCxn id="246" idx="1"/>
            </p:cNvCxnSpPr>
            <p:nvPr/>
          </p:nvCxnSpPr>
          <p:spPr>
            <a:xfrm>
              <a:off x="1641240" y="3838680"/>
              <a:ext cx="254520" cy="63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1900080" y="320508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48" idx="1"/>
              <a:endCxn id="245" idx="2"/>
            </p:cNvCxnSpPr>
            <p:nvPr/>
          </p:nvCxnSpPr>
          <p:spPr>
            <a:xfrm flipV="1">
              <a:off x="1899720" y="3250440"/>
              <a:ext cx="7628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50" name=""/>
            <p:cNvSpPr/>
            <p:nvPr/>
          </p:nvSpPr>
          <p:spPr>
            <a:xfrm>
              <a:off x="2662200" y="44244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46" idx="1"/>
              <a:endCxn id="252" idx="0"/>
            </p:cNvCxnSpPr>
            <p:nvPr/>
          </p:nvCxnSpPr>
          <p:spPr>
            <a:xfrm>
              <a:off x="1895040" y="4474800"/>
              <a:ext cx="777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3" name=""/>
            <p:cNvCxnSpPr>
              <a:stCxn id="245" idx="7"/>
              <a:endCxn id="241" idx="1"/>
            </p:cNvCxnSpPr>
            <p:nvPr/>
          </p:nvCxnSpPr>
          <p:spPr>
            <a:xfrm flipV="1">
              <a:off x="2752200" y="2858400"/>
              <a:ext cx="197640" cy="354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45" idx="5"/>
              <a:endCxn id="242" idx="1"/>
            </p:cNvCxnSpPr>
            <p:nvPr/>
          </p:nvCxnSpPr>
          <p:spPr>
            <a:xfrm>
              <a:off x="2752560" y="3289320"/>
              <a:ext cx="185040" cy="35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41" idx="1"/>
              <a:endCxn id="256" idx="1"/>
            </p:cNvCxnSpPr>
            <p:nvPr/>
          </p:nvCxnSpPr>
          <p:spPr>
            <a:xfrm>
              <a:off x="2949480" y="2859120"/>
              <a:ext cx="682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42" idx="1"/>
              <a:endCxn id="258" idx="0"/>
            </p:cNvCxnSpPr>
            <p:nvPr/>
          </p:nvCxnSpPr>
          <p:spPr>
            <a:xfrm>
              <a:off x="2936520" y="3644640"/>
              <a:ext cx="687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>
              <a:stCxn id="256" idx="3"/>
              <a:endCxn id="260" idx="1"/>
            </p:cNvCxnSpPr>
            <p:nvPr/>
          </p:nvCxnSpPr>
          <p:spPr>
            <a:xfrm flipV="1">
              <a:off x="3714840" y="2547720"/>
              <a:ext cx="126000" cy="313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>
              <a:stCxn id="256" idx="3"/>
              <a:endCxn id="240" idx="1"/>
            </p:cNvCxnSpPr>
            <p:nvPr/>
          </p:nvCxnSpPr>
          <p:spPr>
            <a:xfrm>
              <a:off x="3714480" y="2860200"/>
              <a:ext cx="121320" cy="327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1"/>
              <a:endCxn id="263" idx="2"/>
            </p:cNvCxnSpPr>
            <p:nvPr/>
          </p:nvCxnSpPr>
          <p:spPr>
            <a:xfrm flipV="1">
              <a:off x="3840120" y="2545560"/>
              <a:ext cx="77688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40" idx="1"/>
              <a:endCxn id="265" idx="0"/>
            </p:cNvCxnSpPr>
            <p:nvPr/>
          </p:nvCxnSpPr>
          <p:spPr>
            <a:xfrm>
              <a:off x="3835080" y="3187800"/>
              <a:ext cx="7801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60" name=""/>
            <p:cNvSpPr/>
            <p:nvPr/>
          </p:nvSpPr>
          <p:spPr>
            <a:xfrm>
              <a:off x="3840120" y="25002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5353920" y="27802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4601160" y="31449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4120" y="2998800"/>
              <a:ext cx="5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27360" y="4522680"/>
              <a:ext cx="102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Pil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68480" y="26226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60560" y="3422520"/>
              <a:ext cx="66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22840" y="3186000"/>
              <a:ext cx="96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Bui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9000" y="217008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9000" y="26956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 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12840" y="4987800"/>
              <a:ext cx="8280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8240" y="49068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83040" y="498312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89240" y="49086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3869640" y="498852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7040" y="49086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2040" y="2817720"/>
              <a:ext cx="8280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6280" y="24922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658240" y="443088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3610800" y="360072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>
              <a:stCxn id="263" idx="7"/>
              <a:endCxn id="281" idx="1"/>
            </p:cNvCxnSpPr>
            <p:nvPr/>
          </p:nvCxnSpPr>
          <p:spPr>
            <a:xfrm flipV="1">
              <a:off x="4708440" y="2273040"/>
              <a:ext cx="145440" cy="235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4853160" y="222552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81" idx="1"/>
              <a:endCxn id="283" idx="0"/>
            </p:cNvCxnSpPr>
            <p:nvPr/>
          </p:nvCxnSpPr>
          <p:spPr>
            <a:xfrm>
              <a:off x="4853160" y="2273040"/>
              <a:ext cx="514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63" idx="5"/>
              <a:endCxn id="239" idx="1"/>
            </p:cNvCxnSpPr>
            <p:nvPr/>
          </p:nvCxnSpPr>
          <p:spPr>
            <a:xfrm>
              <a:off x="4708440" y="2584440"/>
              <a:ext cx="145440" cy="24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stCxn id="239" idx="1"/>
              <a:endCxn id="266" idx="0"/>
            </p:cNvCxnSpPr>
            <p:nvPr/>
          </p:nvCxnSpPr>
          <p:spPr>
            <a:xfrm>
              <a:off x="4853160" y="2823840"/>
              <a:ext cx="514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6" name=""/>
            <p:cNvSpPr/>
            <p:nvPr/>
          </p:nvSpPr>
          <p:spPr>
            <a:xfrm>
              <a:off x="4784760" y="1893960"/>
              <a:ext cx="879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onomy Go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5353920" y="22294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6440" y="2822400"/>
              <a:ext cx="84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8" name=""/>
            <p:cNvCxnSpPr>
              <a:stCxn id="243" idx="3"/>
              <a:endCxn id="248" idx="1"/>
            </p:cNvCxnSpPr>
            <p:nvPr/>
          </p:nvCxnSpPr>
          <p:spPr>
            <a:xfrm flipV="1">
              <a:off x="1641600" y="3252240"/>
              <a:ext cx="259200" cy="586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3889440" y="2290680"/>
              <a:ext cx="63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87680" y="228132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9080" y="2998800"/>
              <a:ext cx="59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63920" y="2604960"/>
              <a:ext cx="59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65400" y="3579840"/>
              <a:ext cx="59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41:43Z</dcterms:created>
  <dc:creator>Frank</dc:creator>
  <dc:description/>
  <dc:language>en-US</dc:language>
  <cp:lastModifiedBy>frank crundwell</cp:lastModifiedBy>
  <dcterms:modified xsi:type="dcterms:W3CDTF">2007-08-16T17:16:00Z</dcterms:modified>
  <cp:revision>26</cp:revision>
  <dc:subject/>
  <dc:title>PowerPoint Presentation</dc:title>
</cp:coreProperties>
</file>